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21B-05D1-435D-84A0-9E878B58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1F7-1A93-49F3-ABE7-B3A6DA82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F7C-30FA-4415-993B-833A3546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004-C56B-4741-B23C-6047F3F0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276-9447-45FB-A632-7F31038F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EEF-7EDF-4A80-A3C8-FEF983F6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EF5-DEE9-4A8C-B3AE-2022FDD2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ED9-44DA-4446-A69F-4211F6E4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A82-DA2A-44B4-BFC0-395A70A4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EA3-0501-4CBB-9D28-F0980C3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611-CA8C-4E40-8827-C7DD113A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86D-19EE-40C3-9309-5D118425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8175600" cy="1609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987480" indent="-4388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2" marL="1536120" indent="-2192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3" marL="1865520" indent="-219240">
              <a:spcBef>
                <a:spcPts val="601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4" marL="2194560" indent="-219240">
              <a:spcBef>
                <a:spcPts val="601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5" marL="2194560" indent="-219240"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6" marL="2194560" indent="-219240"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/01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TH 6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46FA-7613-4BD4-8FFB-6991FE4CD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8175600" cy="160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987480" indent="-4388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2" marL="1536120" indent="-2192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3" marL="1865520" indent="-219240">
              <a:spcBef>
                <a:spcPts val="601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4" marL="2194560" indent="-219240">
              <a:spcBef>
                <a:spcPts val="601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5" marL="2194560" indent="-219240"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6" marL="2194560" indent="-219240"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ing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Budgeting is both a planning and controlling too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ary Process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Capital equipment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Major equipment $1000 with life expectancy of more than 5 years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Justifications should include composite depreciation rates, operating costs, and life expectancy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upplies and other expenses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ary Process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Personn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Largest expense category (education) 85% of total budget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Position code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Position description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Budgeted full-time equivalents (FTEs)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#of personnel(hours per position) divided by hours per full time work week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ary Process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Direct Costs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alaries, services, contracts, dues&amp; subscriptions, equipment and tra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Indirect Costs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Charged to department on a formula basis calculated by square footage: utilities, maintenance, housekeeping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 Justification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upport or explanatory documentation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Retain competition, projected patient usage, compatibility with existing equipment, guaranteed service contracts, availability, durability, enhance patient care, attract more patients to facility….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evelopment of Fee Schedule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Time unit system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15 minute increment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atient visit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Modality based system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ost of service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Reviewed and Approv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ontrols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How much do we have to spend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How do these relate to educational outcomes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Generate income? Offset cost of purchase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Benchmarking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Free training provided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Associated costs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Plan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pecific statement of anticipated result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i.e. Expected revenue and probable expense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pecific time perio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basis for future budget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Tool of Control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Accountability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based upon dept. organization and goal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omparison to delegation of authority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ermits comparison of planned with actual performance thus enhancing contro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 Period is Predetermined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apital equipment or improvement budget is a long period 3, 5, 10 years; or trust funds - one time large amount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upplies, expenses and personnel costs - immediate fiscal year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iscal year - accounting perio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Fiscal Year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May or may not correspond to a calendar year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12 months - 13 equal periods of 28 days each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July 1- June 30 - cycle reflects the teaching year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mesters - teaching loads and part time need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Approaches to Budgeting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Incremental - financial data of the past is increased by a given %.  A flat increase over last years allotment.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ersonnel 5%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apital 7%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upplies 4%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Incremental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traightforwar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object-orient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ignificant changes, shifting priorities or pressing needs may be overlook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Planning Programming Budget System (PPBS)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rogram outputs are assessed and resource allocation &amp; funding are directly related to program goal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Zero bas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Not a one year cycle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Planning Programming Budget System (PPBS)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Goals are difficult to make quantifiable with a specific amount attach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resume that all alternatives are known and attainable 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Questions whether programs are viable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7:18:06Z</dcterms:created>
  <dc:creator>DBauman</dc:creator>
  <dc:description/>
  <dc:language>en-US</dc:language>
  <cp:lastModifiedBy>Deborah Bauman</cp:lastModifiedBy>
  <dcterms:modified xsi:type="dcterms:W3CDTF">2009-12-10T12:19:34Z</dcterms:modified>
  <cp:revision>5</cp:revision>
  <dc:subject/>
  <dc:title>Clinical Schedu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Files\video_streaming\htmlflatfiles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